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DB083-6286-43E6-8BFE-7006FAB7E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5CD36-D875-4E4A-B434-26D0072F0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75BFD-8335-4EF4-9E88-D59342872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F8F53-72DE-453F-85E0-DAE736682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B04FE-BEE3-4417-B94D-FB2782C2A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CFE82-06A7-4A7D-8FD4-EF35F8E88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9D157-147F-4711-B270-E16EA6FED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64C28-BF7E-4BF2-B34F-7316989A0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98EDD-B730-4071-AFDF-C08B5C158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1B79C-72EB-49A1-B490-25BC044E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E3A19-FFE3-4E0C-AFA2-B0B2D9242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95362-E963-4140-A641-31EAA18A0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8BCF-C26B-4396-9406-0A564A5EB8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6.1. Pööramine</a:t>
            </a:r>
            <a:endParaRPr b="0" lang="en-US" sz="4400" spc="-1" strike="noStrike">
              <a:solidFill>
                <a:srgbClr val="000000"/>
              </a:solidFill>
              <a:latin typeface="Times New Roman"/>
            </a:endParaRPr>
          </a:p>
        </p:txBody>
      </p:sp>
      <p:sp>
        <p:nvSpPr>
          <p:cNvPr id="42"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Lihtsaim viis vältida mitte-determineeritust on käsitleda selliseid lauseid kas paremal või vasakul pool, mille korral on üheselt määratud, millist reeglit tuleb kasutad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Antud sekventsi korral võib saada rakendada mitut eri pööramisreeglit. Kuid siin ei ole enam järjekord olu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83808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aremasünkroonsed laused.</a:t>
            </a:r>
            <a:endParaRPr b="0" lang="en-US" sz="3200" spc="-1" strike="noStrike">
              <a:solidFill>
                <a:srgbClr val="000000"/>
              </a:solidFill>
              <a:latin typeface="Times New Roman"/>
            </a:endParaRPr>
          </a:p>
        </p:txBody>
      </p:sp>
      <p:pic>
        <p:nvPicPr>
          <p:cNvPr id="52" name="" descr=""/>
          <p:cNvPicPr/>
          <p:nvPr/>
        </p:nvPicPr>
        <p:blipFill>
          <a:blip r:embed="rId1"/>
          <a:stretch/>
        </p:blipFill>
        <p:spPr>
          <a:xfrm>
            <a:off x="685800" y="2467080"/>
            <a:ext cx="7772400" cy="31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2. Vasakasünkroonsed laused</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685800" y="2325600"/>
            <a:ext cx="777240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3. Paremsünkroonsed lause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öö aktiivsete reeglitega tõestuse otsingu ajal lõpeb alati, kui seda tehakse alt-üles moel. Nüüd ilmneb teistsugune mittedetermineeritus: kas rakendada R-le paremreeglit või vasakreeglit ühele passiivsetest eeldustest hulgas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85800" y="2070000"/>
            <a:ext cx="7772400" cy="256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4. Vasaksünkroonsed laused.</a:t>
            </a:r>
            <a:br>
              <a:rPr sz="3200"/>
            </a:br>
            <a:br>
              <a:rPr sz="3200"/>
            </a:br>
            <a:r>
              <a:rPr b="0" lang="et-EE" sz="3200" spc="-1" strike="noStrike">
                <a:solidFill>
                  <a:srgbClr val="000000"/>
                </a:solidFill>
                <a:latin typeface="Times New Roman"/>
                <a:ea typeface="Times New Roman"/>
              </a:rPr>
              <a:t>Vasaksünkroonseid lauseid võib vaja minna mitu korda, seepärast tehakse neist vasakreeglite kasutamisel koopiaid.</a:t>
            </a:r>
            <a:br>
              <a:rPr sz="3200"/>
            </a:br>
            <a:endParaRPr b="0" lang="en-US" sz="3200" spc="-1" strike="noStrike">
              <a:solidFill>
                <a:srgbClr val="000000"/>
              </a:solidFill>
              <a:latin typeface="Times New Roman"/>
            </a:endParaRPr>
          </a:p>
        </p:txBody>
      </p:sp>
      <p:pic>
        <p:nvPicPr>
          <p:cNvPr id="58" name="" descr=""/>
          <p:cNvPicPr/>
          <p:nvPr/>
        </p:nvPicPr>
        <p:blipFill>
          <a:blip r:embed="rId1"/>
          <a:stretch/>
        </p:blipFill>
        <p:spPr>
          <a:xfrm>
            <a:off x="996840" y="3581280"/>
            <a:ext cx="715032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685800" y="609480"/>
            <a:ext cx="7772400" cy="5486400"/>
          </a:xfrm>
          <a:prstGeom prst="rect">
            <a:avLst/>
          </a:prstGeom>
          <a:noFill/>
          <a:ln w="0">
            <a:noFill/>
          </a:ln>
        </p:spPr>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5. Ühiklaused.</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Lubatakse passiivset aatomlauset vasakul paaris passiivse aatomlausega paremal.</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 </a:t>
            </a:r>
            <a:r>
              <a:rPr b="0" lang="et-EE" sz="2800" spc="-1" strike="noStrike">
                <a:solidFill>
                  <a:srgbClr val="000000"/>
                </a:solidFill>
                <a:latin typeface="Times New Roman"/>
              </a:rPr>
              <a:t> </a:t>
            </a:r>
            <a:r>
              <a:rPr b="0" lang="et-EE" sz="2800" spc="-1" strike="noStrike">
                <a:solidFill>
                  <a:srgbClr val="000000"/>
                </a:solidFill>
                <a:latin typeface="Times New Roman"/>
                <a:ea typeface="Times New Roman"/>
              </a:rPr>
              <a:t>init</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	</a:t>
            </a:r>
            <a:r>
              <a:rPr b="0" lang="et-EE" sz="2800" spc="-1" strike="noStrike">
                <a:solidFill>
                  <a:srgbClr val="000000"/>
                </a:solidFill>
                <a:latin typeface="Times New Roman"/>
                <a:ea typeface="Times New Roman"/>
              </a:rPr>
              <a:t>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 P; .  =&gt; . ; P</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Kuna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 laused ei säili, peavad algsekventsides olema tühjad ja kuna järjestus on oluline, siis muid struktuurseid reegleid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 jaoks kasutada ei sa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Times New Roman"/>
                <a:ea typeface="Times New Roman"/>
              </a:rPr>
              <a:t>Teoreem.  </a:t>
            </a:r>
            <a:r>
              <a:rPr b="0" lang="et-EE" sz="3200" spc="-1" strike="noStrike">
                <a:solidFill>
                  <a:srgbClr val="000000"/>
                </a:solidFill>
                <a:latin typeface="Times New Roman"/>
                <a:ea typeface="Times New Roman"/>
              </a:rPr>
              <a:t>Kui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 . või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 ; A, siis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Times New Roman"/>
                <a:ea typeface="Times New Roman"/>
              </a:rPr>
              <a:t>Teoreem.  </a:t>
            </a:r>
            <a:r>
              <a:rPr b="0" lang="et-EE" sz="3200" spc="-1" strike="noStrike">
                <a:solidFill>
                  <a:srgbClr val="000000"/>
                </a:solidFill>
                <a:latin typeface="Times New Roman"/>
                <a:ea typeface="Times New Roman"/>
              </a:rPr>
              <a:t>Kui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 siis .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685800" y="609480"/>
            <a:ext cx="7772400" cy="5486400"/>
          </a:xfrm>
          <a:prstGeom prst="rect">
            <a:avLst/>
          </a:prstGeom>
          <a:noFill/>
          <a:ln w="0">
            <a:noFill/>
          </a:ln>
        </p:spPr>
        <p:txBody>
          <a:bodyPr lIns="90000" rIns="90000" tIns="46800" bIns="46800"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ea typeface="Times New Roman"/>
              </a:rPr>
              <a:t>Teoreem</a:t>
            </a:r>
            <a:r>
              <a:rPr b="0" lang="et-EE" sz="2800" spc="-1" strike="noStrike">
                <a:solidFill>
                  <a:srgbClr val="000000"/>
                </a:solidFill>
                <a:latin typeface="Times New Roman"/>
                <a:ea typeface="Times New Roman"/>
              </a:rPr>
              <a:t> (Pööramisteoreem).</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gt; A</a:t>
            </a:r>
            <a:r>
              <a:rPr b="0" lang="et-EE" sz="2800" spc="-1" strike="noStrike">
                <a:solidFill>
                  <a:srgbClr val="000000"/>
                </a:solidFill>
                <a:latin typeface="Symbol"/>
                <a:ea typeface="Symbol"/>
              </a:rPr>
              <a:t></a:t>
            </a:r>
            <a:r>
              <a:rPr b="0" lang="et-EE" sz="2800" spc="-1" strike="noStrike">
                <a:solidFill>
                  <a:srgbClr val="000000"/>
                </a:solidFill>
                <a:latin typeface="Times New Roman"/>
              </a:rPr>
              <a:t>B,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gt;A ja </a:t>
            </a:r>
            <a:r>
              <a:rPr b="0" lang="et-EE" sz="2800" spc="-1" strike="noStrike">
                <a:solidFill>
                  <a:srgbClr val="000000"/>
                </a:solidFill>
                <a:latin typeface="Symbol"/>
                <a:ea typeface="Symbol"/>
              </a:rPr>
              <a:t></a:t>
            </a:r>
            <a:r>
              <a:rPr b="0" lang="et-EE" sz="2800" spc="-1" strike="noStrike">
                <a:solidFill>
                  <a:srgbClr val="000000"/>
                </a:solidFill>
                <a:latin typeface="Times New Roman"/>
              </a:rPr>
              <a:t>=&gt;B.</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gt; A</a:t>
            </a:r>
            <a:r>
              <a:rPr b="0" lang="et-EE" sz="2800" spc="-1" strike="noStrike">
                <a:solidFill>
                  <a:srgbClr val="000000"/>
                </a:solidFill>
                <a:latin typeface="Symbol"/>
                <a:ea typeface="Symbol"/>
              </a:rPr>
              <a:t></a:t>
            </a:r>
            <a:r>
              <a:rPr b="0" lang="et-EE" sz="2800" spc="-1" strike="noStrike">
                <a:solidFill>
                  <a:srgbClr val="000000"/>
                </a:solidFill>
                <a:latin typeface="Times New Roman"/>
              </a:rPr>
              <a:t>B,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A =&gt; B.</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gt; </a:t>
            </a:r>
            <a:r>
              <a:rPr b="0" lang="et-EE" sz="2800" spc="-1" strike="noStrike">
                <a:solidFill>
                  <a:srgbClr val="000000"/>
                </a:solidFill>
                <a:latin typeface="Symbol"/>
                <a:ea typeface="Symbol"/>
              </a:rPr>
              <a:t></a:t>
            </a:r>
            <a:r>
              <a:rPr b="0" lang="et-EE" sz="2800" spc="-1" strike="noStrike">
                <a:solidFill>
                  <a:srgbClr val="000000"/>
                </a:solidFill>
                <a:latin typeface="Times New Roman"/>
              </a:rPr>
              <a:t>x A,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gt; [a/x] A, kus a on uus individuaalmuutuja.</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gt; </a:t>
            </a:r>
            <a:r>
              <a:rPr b="0" lang="et-EE" sz="2800" spc="-1" strike="noStrike">
                <a:solidFill>
                  <a:srgbClr val="000000"/>
                </a:solidFill>
                <a:latin typeface="Symbol"/>
                <a:ea typeface="Symbol"/>
              </a:rPr>
              <a:t></a:t>
            </a:r>
            <a:r>
              <a:rPr b="0" lang="et-EE" sz="2800" spc="-1" strike="noStrike">
                <a:solidFill>
                  <a:srgbClr val="000000"/>
                </a:solidFill>
                <a:latin typeface="Times New Roman"/>
              </a:rPr>
              <a:t>A,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A =&gt; p, kus p on uus lausemuutuja.</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A</a:t>
            </a:r>
            <a:r>
              <a:rPr b="0" lang="et-EE" sz="2800" spc="-1" strike="noStrike">
                <a:solidFill>
                  <a:srgbClr val="000000"/>
                </a:solidFill>
                <a:latin typeface="Symbol"/>
                <a:ea typeface="Symbol"/>
              </a:rPr>
              <a:t></a:t>
            </a:r>
            <a:r>
              <a:rPr b="0" lang="et-EE" sz="2800" spc="-1" strike="noStrike">
                <a:solidFill>
                  <a:srgbClr val="000000"/>
                </a:solidFill>
                <a:latin typeface="Times New Roman"/>
              </a:rPr>
              <a:t>B =&gt; C,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A, B =&gt; C.</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a:t>
            </a:r>
            <a:r>
              <a:rPr b="0" lang="et-EE" sz="2800" spc="-1" strike="noStrike">
                <a:solidFill>
                  <a:srgbClr val="000000"/>
                </a:solidFill>
                <a:latin typeface="Arial"/>
                <a:ea typeface="Arial"/>
              </a:rPr>
              <a:t>T</a:t>
            </a:r>
            <a:r>
              <a:rPr b="0" lang="et-EE" sz="2800" spc="-1" strike="noStrike">
                <a:solidFill>
                  <a:srgbClr val="000000"/>
                </a:solidFill>
                <a:latin typeface="Times New Roman"/>
              </a:rPr>
              <a:t> =&gt; C,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gt; C.</a:t>
            </a:r>
            <a:endParaRPr b="0" lang="en-US" sz="2800" spc="-1" strike="noStrike">
              <a:solidFill>
                <a:srgbClr val="000000"/>
              </a:solidFill>
              <a:latin typeface="Times New Roman"/>
            </a:endParaRPr>
          </a:p>
          <a:p>
            <a:pPr marL="315360" indent="-315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rPr>
              <a:t>, A</a:t>
            </a:r>
            <a:r>
              <a:rPr b="0" lang="et-EE" sz="2800" spc="-1" strike="noStrike">
                <a:solidFill>
                  <a:srgbClr val="000000"/>
                </a:solidFill>
                <a:latin typeface="Symbol"/>
                <a:ea typeface="Symbol"/>
              </a:rPr>
              <a:t></a:t>
            </a:r>
            <a:r>
              <a:rPr b="0" lang="et-EE" sz="2800" spc="-1" strike="noStrike">
                <a:solidFill>
                  <a:srgbClr val="000000"/>
                </a:solidFill>
                <a:latin typeface="Times New Roman"/>
              </a:rPr>
              <a:t>B =&gt; C, siis </a:t>
            </a:r>
            <a:r>
              <a:rPr b="0" lang="et-EE" sz="2800" spc="-1" strike="noStrike">
                <a:solidFill>
                  <a:srgbClr val="000000"/>
                </a:solidFill>
                <a:latin typeface="Symbol"/>
                <a:ea typeface="Symbol"/>
              </a:rPr>
              <a:t></a:t>
            </a:r>
            <a:r>
              <a:rPr b="0" lang="et-EE" sz="2800" spc="-1" strike="noStrike">
                <a:solidFill>
                  <a:srgbClr val="000000"/>
                </a:solidFill>
                <a:latin typeface="Times New Roman"/>
              </a:rPr>
              <a:t>, A =&gt; C ja </a:t>
            </a:r>
            <a:r>
              <a:rPr b="0" lang="et-EE" sz="2800" spc="-1" strike="noStrike">
                <a:solidFill>
                  <a:srgbClr val="000000"/>
                </a:solidFill>
                <a:latin typeface="Symbol"/>
                <a:ea typeface="Symbol"/>
              </a:rPr>
              <a:t></a:t>
            </a:r>
            <a:r>
              <a:rPr b="0" lang="et-EE" sz="2800" spc="-1" strike="noStrike">
                <a:solidFill>
                  <a:srgbClr val="000000"/>
                </a:solidFill>
                <a:latin typeface="Times New Roman"/>
              </a:rPr>
              <a:t>, B =&gt; C.</a:t>
            </a:r>
            <a:endParaRPr b="0" lang="en-US" sz="2800" spc="-1" strike="noStrike">
              <a:solidFill>
                <a:srgbClr val="000000"/>
              </a:solidFill>
              <a:latin typeface="Times New Roman"/>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8. </a:t>
            </a:r>
            <a:r>
              <a:rPr b="0" lang="et-EE" sz="2800" spc="-1" strike="noStrike">
                <a:solidFill>
                  <a:srgbClr val="000000"/>
                </a:solidFill>
                <a:latin typeface="Times New Roman"/>
                <a:ea typeface="Times New Roman"/>
              </a:rPr>
              <a:t>Kui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x, A =&gt; C, siis </a:t>
            </a:r>
            <a:r>
              <a:rPr b="0" lang="et-EE" sz="2800" spc="-1" strike="noStrike">
                <a:solidFill>
                  <a:srgbClr val="000000"/>
                </a:solidFill>
                <a:latin typeface="Symbol"/>
                <a:ea typeface="Symbol"/>
              </a:rPr>
              <a:t></a:t>
            </a:r>
            <a:r>
              <a:rPr b="0" lang="et-EE" sz="2800" spc="-1" strike="noStrike">
                <a:solidFill>
                  <a:srgbClr val="000000"/>
                </a:solidFill>
                <a:latin typeface="Times New Roman"/>
                <a:ea typeface="Times New Roman"/>
              </a:rPr>
              <a:t>, [a/x]A =&gt; C, kus a on uus individuaalmuutuj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Times New Roman"/>
                <a:ea typeface="Times New Roman"/>
              </a:rPr>
              <a:t>Tõestus.</a:t>
            </a:r>
            <a:r>
              <a:rPr b="0" lang="et-EE" sz="3200" spc="-1" strike="noStrike">
                <a:solidFill>
                  <a:srgbClr val="000000"/>
                </a:solidFill>
                <a:latin typeface="Times New Roman"/>
                <a:ea typeface="Times New Roman"/>
              </a:rPr>
              <a:t> Lihtne.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Näitek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gt;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B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Eeldu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B, A =&gt; A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init)</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B =&gt; A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amp;=&gt;</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gt; A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cu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eised reeglid pööramist ei lub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Nüüd võib kirja panna pööramisstrateegia. Siin tuleb eraldi välja tuua see, et pööramisreeglite rakendamise järjekord ei ole oluline: kõiki rakendatakse, kuid pole tähtis, mis järjekorr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685800" y="609480"/>
            <a:ext cx="7772400" cy="54864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Esmalt eristame sellised laused, mille korral kas vasak- või paremreegel ei ole pööratav. Me nimetame neid </a:t>
            </a:r>
            <a:r>
              <a:rPr b="0" i="1" lang="et-EE" sz="3200" spc="-1" strike="noStrike">
                <a:solidFill>
                  <a:srgbClr val="000000"/>
                </a:solidFill>
                <a:latin typeface="Times New Roman"/>
                <a:ea typeface="Times New Roman"/>
              </a:rPr>
              <a:t>sünkroonseteks</a:t>
            </a:r>
            <a:r>
              <a:rPr b="0" lang="et-EE" sz="3200" spc="-1" strike="noStrike">
                <a:solidFill>
                  <a:srgbClr val="000000"/>
                </a:solidFill>
                <a:latin typeface="Times New Roman"/>
                <a:ea typeface="Times New Roman"/>
              </a:rPr>
              <a:t> lauseteks (ülejäänud on seega asünkroonsed).</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Vasaksünkroonsed laused: </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L ::= P ‌ A1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A2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x A</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aremsünkroonsed laused </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R ::= P ‌ A1</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2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x A</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assiivsed antetsedendid </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 .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L</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Nüüd võivad sekventsid olla vasak- või paremlaused ja seejuures kas aktiivsed või passiivsed, nii et sekventsid saavad neli hinnangu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ea typeface="Times New Roman"/>
              </a:rPr>
              <a:t>Et asja lihtsustada, korjame sarnased hinnangud rühmadesse, pidades samal ajal meeles, et paremal võib olla ainult üks lause. Aktiivsed laused, mida hakatakse asünkroonselt lahti võtma, kirjutatakse keskele ja sünkroonsed laused jäävad hilisemaks uurimiseks väljapoole ehk siis vasakule.</a:t>
            </a:r>
            <a:r>
              <a:rPr b="0" lang="et-EE"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kventse kirjutatakse kujul </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 ; .  </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ja  </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 ; 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us välisrühmad, mis hõlmavad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ja R, on</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passiivsed ja siserühmad, mis hõlmavad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ja A, on aktiivsed.</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käsitleme kui järjestamata hulka, kuid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peab olema järjestatud, vältimaks ebaõigeid mittedeterministlikke valikuid.  Töö käib lause paremas otsas. Lõhume asünkroonsed laused laiali, viime sünkroonsed laused passiivsesse rühma, kuni asünkroonseid enam pole. Siis peame valima mingi passiivse lause. Kui katse sellega ebaõnnestub, tuleb tagasi pöörduda ja proovida teisi võimalus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kventsi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 tõestamiseks alustame pööramisel põhinevat protseduuri sekventsig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gt; 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07:46:03Z</dcterms:created>
  <dc:creator>Tiina Zingel</dc:creator>
  <dc:description/>
  <dc:language>en-US</dc:language>
  <cp:lastModifiedBy>Tiina Zingel</cp:lastModifiedBy>
  <dcterms:modified xsi:type="dcterms:W3CDTF">2006-03-21T07:50:59Z</dcterms:modified>
  <cp:revision>2</cp:revision>
  <dc:subject/>
  <dc:title>6.1. Pööramine</dc:title>
</cp:coreProperties>
</file>